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.png" ContentType="image/png"/>
  <Override PartName="/ppt/media/image2.png" ContentType="image/png"/>
  <Override PartName="/ppt/media/image14.pct" ContentType="image/x-pict"/>
  <Override PartName="/ppt/media/image3.png" ContentType="image/png"/>
  <Override PartName="/ppt/media/image15.pct" ContentType="image/x-pict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D6F6-AD23-477E-9B87-11FE5F84B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10DD-A46F-44D6-9816-7ECE1884D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9D1C-D7EA-40EF-BAA6-11E0DF488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EC3E-C6F5-4DA1-880F-23BAC03E2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038F-C9AF-406E-9CCE-E71FFCFF9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8F94-73C0-42D9-A073-669EE7858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A916-4765-437F-B3D7-30EE1ADAB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8BD1-C2F8-45BF-8F19-F0EC3E65B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8E7C-268E-4295-BE18-E5E99439C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1434-C8C4-4BE5-B4BB-419A28EDC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B177-9FE9-40FA-A01B-09B0B259A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561A-39FB-4FAD-AC5D-ADF65235E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5D255-0553-4824-B09A-92E92952DE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segmentation, page tables, and interrup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17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is a kernel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4723920"/>
            <a:ext cx="83055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de running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sted program: e.g., sets page-map, U/K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forces mod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48" name=""/>
          <p:cNvSpPr/>
          <p:nvPr/>
        </p:nvSpPr>
        <p:spPr>
          <a:xfrm>
            <a:off x="138240" y="3400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8600" y="2104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tering the kernel: system cal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4724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es U/K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kernel at kernel-specified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127080" y="2362320"/>
            <a:ext cx="787320" cy="1371600"/>
          </a:xfrm>
          <a:custGeom>
            <a:avLst/>
            <a:gdLst/>
            <a:ahLst/>
            <a:rect l="l" t="t" r="r" b="b"/>
            <a:pathLst>
              <a:path w="496" h="864">
                <a:moveTo>
                  <a:pt x="400" y="0"/>
                </a:moveTo>
                <a:cubicBezTo>
                  <a:pt x="200" y="168"/>
                  <a:pt x="0" y="336"/>
                  <a:pt x="16" y="480"/>
                </a:cubicBezTo>
                <a:cubicBezTo>
                  <a:pt x="32" y="624"/>
                  <a:pt x="264" y="744"/>
                  <a:pt x="496" y="86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153280" y="2590920"/>
            <a:ext cx="774720" cy="1143000"/>
          </a:xfrm>
          <a:custGeom>
            <a:avLst/>
            <a:gdLst/>
            <a:ahLst/>
            <a:rect l="l" t="t" r="r" b="b"/>
            <a:pathLst>
              <a:path w="488" h="720">
                <a:moveTo>
                  <a:pt x="48" y="720"/>
                </a:moveTo>
                <a:cubicBezTo>
                  <a:pt x="268" y="564"/>
                  <a:pt x="488" y="408"/>
                  <a:pt x="480" y="288"/>
                </a:cubicBezTo>
                <a:cubicBezTo>
                  <a:pt x="472" y="168"/>
                  <a:pt x="80" y="48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8240" y="195264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444160" y="34765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virtual address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449568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tarts in real mode (no prote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registers (cs, ss, ds, 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* 16 + offset 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can switch to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ation and p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20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ranslation with segmen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533376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DGT loads CPU’s G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 bit in CR0 register enables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s registers conta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63640" y="1708200"/>
            <a:ext cx="741672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gmen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4723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address = logical address +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rt: logical address &lt;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 restricts what memory an application can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8994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code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es EIP contain the address of “ljmp” instruction after “movl %eax, %cr0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0866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forcing modularity in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312372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L: current privileg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: privileged (kernel mo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: user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programs can set segment sel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rnel can load value in CPL and GDT, but user programs can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723888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two-level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size is 4,096 b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048,576 pages in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level structure to trans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498680" y="1727280"/>
            <a:ext cx="614664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page table ent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3428640"/>
            <a:ext cx="8458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: writ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W = 0 and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: user mode references allow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U = 0 and user references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: pres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P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76312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does the x86 do exactly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04844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forcing modularity with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ize processor and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mechanism for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3000" y="36468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en does page table  take effect?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4190760"/>
            <a:ext cx="86104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G enables page-base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3 contains address of pag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does the next instruction come fr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hanging PDE or PTE, you must flush TL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oad 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912080" cy="22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ser mode to kernel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: I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interru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exes into interrupt descriptor table (ID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TR contains physical address of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55640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D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ways to get into kern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sks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happens on trap/interrupt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 uses vector n to index into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s that CPL ≤ D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ESP and SS in internal 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s ESP and SS from T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FL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some EFLAGS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CS and EIP from IDT descri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kernel to us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ET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rse of 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b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1: start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up and use se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2: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kernel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3: user/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user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I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8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alls and page fa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4: many user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6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emptive 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2209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848360" y="1981080"/>
            <a:ext cx="6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057400" y="309600"/>
            <a:ext cx="7086600" cy="65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777240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call x86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520" y="5909760"/>
            <a:ext cx="84582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nd P for V OS can walk PT man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77240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160" y="-2880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VPT: Mapping the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5866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Z maps to the page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V maps to V’s page table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28600" y="803160"/>
            <a:ext cx="7772400" cy="50799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811680" y="14479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switching processor between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giving each program its own virtual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upport for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 and tr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237600"/>
            <a:ext cx="84582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st lecture’s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243828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52880" y="1828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91120" y="3276720"/>
            <a:ext cx="761760" cy="14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83280" y="1866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83280" y="240984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02360" y="2928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655240" y="3919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40840" y="34290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40840" y="43434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43720" y="187632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3960" y="143820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etter view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5181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odularity reasons: many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switches processor(s) between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2416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005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38760" y="3124080"/>
            <a:ext cx="76176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30200" y="2246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381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54320" y="3809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54320" y="32986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432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13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016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blem: no boundari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8153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can modify other programs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jumps into other program’s co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may get into an infinite lo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568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74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7774200" y="4343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35600" y="16002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9576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2616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25440" y="225756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445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25800" y="37339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25800" y="32767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2580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9684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oal: enforcing modularit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each program its private memory for code, stack, a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 one program from getting out of its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ing sharing between programs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 programs to share 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ution approach: virtualiz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548604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memory: virtual addres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processor: preemptive schedu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774200" y="481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7648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95760" y="2152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26160" y="219060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16080" y="327672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16080" y="4343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40120" y="365760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40120" y="2666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25800" y="474336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86400" y="320040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86400" y="426708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16600" y="1219320"/>
            <a:ext cx="126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2640" y="1066680"/>
            <a:ext cx="139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83640" y="2840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63800" y="213372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63800" y="325296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07320" y="3809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87840" y="4343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31000" y="4876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358128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2676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80920" y="4800600"/>
            <a:ext cx="26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33640" y="2971800"/>
            <a:ext cx="26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33720" y="4572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age map guides transl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49896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rogram has its own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-10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mory doesn’t have to be contigu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switching program, switch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maps stored in main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274320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038480" y="3733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419112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4406760" cy="85104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/>
          <p:nvPr/>
        </p:nvCxnSpPr>
        <p:spPr>
          <a:xfrm>
            <a:off x="1960200" y="220968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764280" y="4038480"/>
            <a:ext cx="15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1752480"/>
            <a:ext cx="2057400" cy="312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38880" y="4186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81680" y="42609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20280" y="4221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41040" y="422748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xB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44197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25520" y="381780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1’s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/>
          <p:nvPr/>
        </p:nvCxnSpPr>
        <p:spPr>
          <a:xfrm flipV="1">
            <a:off x="4952880" y="2056680"/>
            <a:ext cx="1372320" cy="1105560"/>
          </a:xfrm>
          <a:prstGeom prst="bentConnector3">
            <a:avLst>
              <a:gd name="adj1" fmla="val 4998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057400" y="129384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7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tecting page maps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kernel and user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4856040"/>
            <a:ext cx="838224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mode: can change page-map register, U/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user mode: can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or starts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interrupts, processor switches to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2438280"/>
            <a:ext cx="24382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$val, %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32448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6000" y="388620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/>
          <p:nvPr/>
        </p:nvCxnSpPr>
        <p:spPr>
          <a:xfrm>
            <a:off x="3885840" y="190512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4896000" y="3886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2971800"/>
            <a:ext cx="11430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/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09840" y="320040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17T02:09:15Z</dcterms:modified>
  <cp:revision>184</cp:revision>
  <dc:subject/>
  <dc:title>Labs</dc:title>
</cp:coreProperties>
</file>